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voltage.wav" ContentType="audio/x-wav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327-1855-47CD-9783-13C81A64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E4C-F730-4DAF-A59D-263BB14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EC2-8B41-4466-8C14-2148F047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680-2416-4974-BCB1-F5E23A2C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8A7-B57A-4B15-B42C-DA970FF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AD1-2659-4C24-A4A4-733F2CA0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48C-A852-4E88-A9D0-8AF4C998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FBD-F870-42EF-842D-051AB5A1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594-4137-4AC6-94C7-0CD46B82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EFF-B0C8-4F4F-BE9D-F2BFFDF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C6A-C8AF-4FE1-BF0E-06871AB3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DC6-E1B9-4BA8-A437-F124315D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B91F-B5CF-4082-A2AC-93D2B6B5D77A}" type="slidenum">
              <a:rPr b="0" lang="kk-KZ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36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26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rcRect l="0" t="6326" r="0" b="54656"/>
          <a:stretch/>
        </p:blipFill>
        <p:spPr>
          <a:xfrm>
            <a:off x="395280" y="1989000"/>
            <a:ext cx="8053560" cy="2880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71640" y="40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Пал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7164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148360" y="119700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788000" y="177336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907920"/>
          <a:ext cx="8567640" cy="51688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17мм, закрепить в тисках, отрезать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4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8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точить поверхность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2" name="Рисунок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36800" y="38545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6" descr=""/>
          <p:cNvPicPr/>
          <p:nvPr/>
        </p:nvPicPr>
        <p:blipFill>
          <a:blip r:embed="rId3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7" descr=""/>
          <p:cNvPicPr/>
          <p:nvPr/>
        </p:nvPicPr>
        <p:blipFill>
          <a:blip r:embed="rId4"/>
          <a:stretch/>
        </p:blipFill>
        <p:spPr>
          <a:xfrm>
            <a:off x="4788000" y="3298680"/>
            <a:ext cx="1585800" cy="110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8" descr=""/>
          <p:cNvPicPr/>
          <p:nvPr/>
        </p:nvPicPr>
        <p:blipFill>
          <a:blip r:embed="rId5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673280" y="1555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0000" y="765000"/>
          <a:ext cx="8567640" cy="588024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ц отрез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нять фаску  2x45° и отрезать заготовку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езать резьбу  М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плашкодержатель, плашка, штангенцирку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26" descr=""/>
          <p:cNvPicPr/>
          <p:nvPr/>
        </p:nvPicPr>
        <p:blipFill>
          <a:blip r:embed="rId1"/>
          <a:stretch/>
        </p:blipFill>
        <p:spPr>
          <a:xfrm>
            <a:off x="5081760" y="148896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1706400"/>
            <a:ext cx="1675080" cy="7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292720" y="46656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908000" y="3052800"/>
            <a:ext cx="136080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08000" y="3760920"/>
            <a:ext cx="1187640" cy="547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5"/>
          <a:stretch/>
        </p:blipFill>
        <p:spPr>
          <a:xfrm>
            <a:off x="5081760" y="2759040"/>
            <a:ext cx="1128600" cy="633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6"/>
          <a:stretch/>
        </p:blipFill>
        <p:spPr>
          <a:xfrm>
            <a:off x="4951440" y="3535200"/>
            <a:ext cx="1388880" cy="79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3268800" y="4535640"/>
            <a:ext cx="94284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"/>
          <p:cNvPicPr/>
          <p:nvPr/>
        </p:nvPicPr>
        <p:blipFill>
          <a:blip r:embed="rId8"/>
          <a:stretch/>
        </p:blipFill>
        <p:spPr>
          <a:xfrm>
            <a:off x="4795920" y="5002200"/>
            <a:ext cx="170028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673280" y="1270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0000" y="965160"/>
          <a:ext cx="8567640" cy="55594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, приспособления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Точить фаску  2x45° и   нарезат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ьбу  М 10 на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трезать  заготовку 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плашка и плашкодерж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26" descr=""/>
          <p:cNvPicPr/>
          <p:nvPr/>
        </p:nvPicPr>
        <p:blipFill>
          <a:blip r:embed="rId1"/>
          <a:stretch/>
        </p:blipFill>
        <p:spPr>
          <a:xfrm>
            <a:off x="5087880" y="1690560"/>
            <a:ext cx="1128600" cy="962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47960" y="1914480"/>
            <a:ext cx="1674720" cy="714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84360" y="503280"/>
            <a:ext cx="79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Продолжение таблицы второй способ нарезания резьбы при изготовлении бол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833480" y="3219480"/>
            <a:ext cx="1360440" cy="631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19160" y="5262480"/>
            <a:ext cx="148752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4954680" y="300816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5189400" y="3664080"/>
            <a:ext cx="827280" cy="996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758960" y="3898800"/>
            <a:ext cx="1362240" cy="738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4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4583160" y="5060880"/>
            <a:ext cx="203976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rcRect l="1134" t="22379" r="0" b="16077"/>
          <a:stretch/>
        </p:blipFill>
        <p:spPr>
          <a:xfrm>
            <a:off x="2943360" y="4540320"/>
            <a:ext cx="3369960" cy="1800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539640" y="33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детал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276720" y="9255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368520" y="4122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2913120" y="45594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3"/>
          <a:stretch/>
        </p:blipFill>
        <p:spPr>
          <a:xfrm>
            <a:off x="2340000" y="1380960"/>
            <a:ext cx="4248000" cy="256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839880"/>
          <a:ext cx="8569440" cy="5145120"/>
        </p:xfrm>
        <a:graphic>
          <a:graphicData uri="http://schemas.openxmlformats.org/drawingml/2006/table">
            <a:tbl>
              <a:tblPr/>
              <a:tblGrid>
                <a:gridCol w="952560"/>
                <a:gridCol w="3332160"/>
                <a:gridCol w="2141640"/>
                <a:gridCol w="2143080"/>
              </a:tblGrid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8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36800" y="32353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6" descr=""/>
          <p:cNvPicPr/>
          <p:nvPr/>
        </p:nvPicPr>
        <p:blipFill>
          <a:blip r:embed="rId2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8" descr=""/>
          <p:cNvPicPr/>
          <p:nvPr/>
        </p:nvPicPr>
        <p:blipFill>
          <a:blip r:embed="rId3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4"/>
          <a:stretch/>
        </p:blipFill>
        <p:spPr>
          <a:xfrm>
            <a:off x="5191200" y="1620720"/>
            <a:ext cx="106668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2124000" y="13500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620640"/>
          <a:ext cx="8642160" cy="6016680"/>
        </p:xfrm>
        <a:graphic>
          <a:graphicData uri="http://schemas.openxmlformats.org/drawingml/2006/table">
            <a:tbl>
              <a:tblPr/>
              <a:tblGrid>
                <a:gridCol w="936360"/>
                <a:gridCol w="3168720"/>
                <a:gridCol w="2881440"/>
                <a:gridCol w="1655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32 мм, закрепить в тисках, отрезать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, снять ф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верлить сквозное отверстие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Снять  фаску  2x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резьбу 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и отрезать заготовку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о, развер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Рисунок 4" descr=""/>
          <p:cNvPicPr/>
          <p:nvPr/>
        </p:nvPicPr>
        <p:blipFill>
          <a:blip r:embed="rId1">
            <a:biLevel thresh="50000"/>
          </a:blip>
          <a:srcRect l="51271" t="0" r="0" b="0"/>
          <a:stretch/>
        </p:blipFill>
        <p:spPr>
          <a:xfrm>
            <a:off x="5148360" y="1484280"/>
            <a:ext cx="107928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"/>
          <p:cNvPicPr/>
          <p:nvPr/>
        </p:nvPicPr>
        <p:blipFill>
          <a:blip r:embed="rId2"/>
          <a:srcRect l="56825" t="0" r="0" b="0"/>
          <a:stretch/>
        </p:blipFill>
        <p:spPr>
          <a:xfrm>
            <a:off x="4643280" y="279252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konspekta.net/infopediasu/baza2/1760788975815.files/image065.jpg"/>
          <p:cNvPicPr/>
          <p:nvPr/>
        </p:nvPicPr>
        <p:blipFill>
          <a:blip r:embed="rId3"/>
          <a:srcRect l="12114" t="26614" r="51242" b="52704"/>
          <a:stretch/>
        </p:blipFill>
        <p:spPr>
          <a:xfrm>
            <a:off x="5040360" y="3998880"/>
            <a:ext cx="1368360" cy="59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s://konspekta.net/infopediasu/baza2/1760788975815.files/image065.jpg"/>
          <p:cNvPicPr/>
          <p:nvPr/>
        </p:nvPicPr>
        <p:blipFill>
          <a:blip r:embed="rId4"/>
          <a:srcRect l="0" t="76696" r="45488" b="0"/>
          <a:stretch/>
        </p:blipFill>
        <p:spPr>
          <a:xfrm>
            <a:off x="4908600" y="4784760"/>
            <a:ext cx="1798560" cy="595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808600" y="291924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871880" y="5543640"/>
            <a:ext cx="1171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72200" y="5567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8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476360" y="1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557280"/>
          <a:ext cx="8569440" cy="6062760"/>
        </p:xfrm>
        <a:graphic>
          <a:graphicData uri="http://schemas.openxmlformats.org/drawingml/2006/table">
            <a:tbl>
              <a:tblPr/>
              <a:tblGrid>
                <a:gridCol w="1013040"/>
                <a:gridCol w="3271680"/>
                <a:gridCol w="2141640"/>
                <a:gridCol w="21430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Выбрать  заготовку под ключ 32 мм, закрепить в тис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трезать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Закрепить заготовку в тисках и обработать  торец (с 2-х стор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 , напи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акернить центр   и сверлить сквозное отверсти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молоток, чертилка, линейка, кернер , сверло, дрель (коловоро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метрическую резьб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кончательная 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, вороток, 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Рисунок 3" descr=""/>
          <p:cNvPicPr/>
          <p:nvPr/>
        </p:nvPicPr>
        <p:blipFill>
          <a:blip r:embed="rId1">
            <a:biLevel thresh="50000"/>
          </a:blip>
          <a:srcRect l="51271" t="0" r="0" b="16677"/>
          <a:stretch/>
        </p:blipFill>
        <p:spPr>
          <a:xfrm>
            <a:off x="5200560" y="13460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rcRect l="20156" t="-138" r="14324" b="48525"/>
          <a:stretch/>
        </p:blipFill>
        <p:spPr>
          <a:xfrm>
            <a:off x="4925880" y="2178000"/>
            <a:ext cx="136872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glavmex.ru/forum/download/file.php?id=12990"/>
          <p:cNvPicPr/>
          <p:nvPr/>
        </p:nvPicPr>
        <p:blipFill>
          <a:blip r:embed="rId3"/>
          <a:srcRect l="63000" t="12525" r="12685" b="65881"/>
          <a:stretch/>
        </p:blipFill>
        <p:spPr>
          <a:xfrm>
            <a:off x="5010120" y="3254400"/>
            <a:ext cx="1171440" cy="7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metallurgu.ru/books/item/f00/s00/z0000022/pic/000198.jpg"/>
          <p:cNvPicPr/>
          <p:nvPr/>
        </p:nvPicPr>
        <p:blipFill>
          <a:blip r:embed="rId4"/>
          <a:srcRect l="30679" t="60195" r="48896" b="0"/>
          <a:stretch/>
        </p:blipFill>
        <p:spPr>
          <a:xfrm>
            <a:off x="4730760" y="4327560"/>
            <a:ext cx="8794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"/>
          <p:cNvPicPr/>
          <p:nvPr/>
        </p:nvPicPr>
        <p:blipFill>
          <a:blip r:embed="rId5"/>
          <a:stretch/>
        </p:blipFill>
        <p:spPr>
          <a:xfrm>
            <a:off x="5708520" y="4386240"/>
            <a:ext cx="47304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s://cf2.ppt-online.org/files2/slide/t/tfo0KcABjTvEgIeRNLxJ61QZauX3yUC9brs2qiFHk/slide-33.jpg"/>
          <p:cNvPicPr/>
          <p:nvPr/>
        </p:nvPicPr>
        <p:blipFill>
          <a:blip r:embed="rId6"/>
          <a:srcRect l="0" t="32160" r="12282" b="13877"/>
          <a:stretch/>
        </p:blipFill>
        <p:spPr>
          <a:xfrm>
            <a:off x="4664160" y="5372280"/>
            <a:ext cx="1665360" cy="76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7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46240" y="1387440"/>
            <a:ext cx="4686480" cy="2048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047320" y="866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98600" y="256536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7880" y="19890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лез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37120" y="1498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ов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070160" y="9572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6879240" y="1387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59160" y="1812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939360" y="233856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2854800" y="277920"/>
            <a:ext cx="33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езание резьбы метчиком</a:t>
            </a:r>
            <a:r>
              <a:rPr b="1" lang="kk-K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2003400" y="4116240"/>
            <a:ext cx="4689360" cy="1951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43160" y="40633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лашка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939360" y="4643280"/>
            <a:ext cx="15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974640" y="51004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6683040" y="555768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одерж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795280" y="37051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11280" y="51840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асности в рабо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 Травмирование осколками метал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Травмирование при работе неисправным инструмен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 начала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деньте спецодежду (фартук с нарукавниками или халат) и головной убор (берет или косынку).Тщательно подберите волосы и заправьте концы косын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При рубке металла наденьте оч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Проверьте наличие инвентаря (совок, сетка, щетка для чистки напильников, сиденье, подставная решет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Проверьте состояние инструмента индивидуального пользования, разложите их в порядке, установленном учителем. В случае неисправности инструмента сообщите об этом учител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 Проверьте состояние верстачных тисков (губки тисков должны быть плотно привинчены, насечка не сработан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 время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чно закрепите обрабатываемую деталь в тиск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чаг тисков опускайте плавно, чтобы не получить травм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Работу выполняйте только исправными инструмент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rcRect l="30575" t="59269" r="22541" b="6813"/>
          <a:stretch/>
        </p:blipFill>
        <p:spPr>
          <a:xfrm>
            <a:off x="933480" y="2146320"/>
            <a:ext cx="4174920" cy="1946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17720" y="114480"/>
            <a:ext cx="51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Установ 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005 Токарная операц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Установить  заготовк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рех кулачковый патрон и закрепить дл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 76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м, диаметр - 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34м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933480" y="4878360"/>
            <a:ext cx="5284800" cy="174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050840" y="4203720"/>
            <a:ext cx="62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rcRect l="0" t="55013" r="13487" b="0"/>
          <a:stretch/>
        </p:blipFill>
        <p:spPr>
          <a:xfrm>
            <a:off x="1258920" y="861840"/>
            <a:ext cx="5616720" cy="219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979640" y="216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3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rcRect l="0" t="0" r="0" b="8366"/>
          <a:stretch/>
        </p:blipFill>
        <p:spPr>
          <a:xfrm>
            <a:off x="1258920" y="4076640"/>
            <a:ext cx="568800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012760" y="3332160"/>
            <a:ext cx="30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5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rcRect l="2327" t="44866" r="14106" b="10257"/>
          <a:stretch/>
        </p:blipFill>
        <p:spPr>
          <a:xfrm>
            <a:off x="1476360" y="1319040"/>
            <a:ext cx="5184720" cy="208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096920" y="476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5. Точить канавку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3 на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длину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1584360" y="4508640"/>
            <a:ext cx="4968720" cy="1724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1647360" y="3773520"/>
            <a:ext cx="25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6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rcRect l="2602" t="48609" r="15400" b="11469"/>
          <a:stretch/>
        </p:blipFill>
        <p:spPr>
          <a:xfrm>
            <a:off x="1979640" y="1492200"/>
            <a:ext cx="4535640" cy="172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763640" y="62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7 Отрезать заготовку  на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L 66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м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547640" y="3213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Open Sans"/>
              </a:rPr>
              <a:t>Установ 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1 Переустановить заготовку, закреп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2340000" y="4365720"/>
            <a:ext cx="360036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rcRect l="2709" t="4163" r="1126" b="54194"/>
          <a:stretch/>
        </p:blipFill>
        <p:spPr>
          <a:xfrm>
            <a:off x="1262160" y="1266840"/>
            <a:ext cx="597672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258920" y="33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2"/>
          <a:srcRect l="3905" t="52058" r="4988" b="2824"/>
          <a:stretch/>
        </p:blipFill>
        <p:spPr>
          <a:xfrm>
            <a:off x="1271520" y="4437000"/>
            <a:ext cx="5905440" cy="1943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294640" y="35719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32000" y="93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али «Болт»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44600" y="977760"/>
            <a:ext cx="859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 крепёжное изделие в виде стержня с наружной резьбой, как правило, с шестигранной головкой под гаечный ключ, образующее соединение при помощи гайки или иного резьбового отверст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ом скрепляются отдельные детали с помощью навинчивания на него гай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95280" y="393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— крепёжное изделие с резьбовым отверстием, образующее соединение с помощью бол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бычно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изготавливаются шестигранной формы под гаечный ключ, но могут быть и квадратными, круглыми с насеч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rcRect l="18497" t="0" r="17719" b="0"/>
          <a:stretch/>
        </p:blipFill>
        <p:spPr>
          <a:xfrm>
            <a:off x="6732720" y="4830840"/>
            <a:ext cx="1679400" cy="1760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2"/>
          <a:srcRect l="12199" t="23757" r="12199" b="22699"/>
          <a:stretch/>
        </p:blipFill>
        <p:spPr>
          <a:xfrm>
            <a:off x="1979640" y="221940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3"/>
          <a:stretch/>
        </p:blipFill>
        <p:spPr>
          <a:xfrm>
            <a:off x="5373720" y="2313000"/>
            <a:ext cx="271764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98360" y="5132520"/>
            <a:ext cx="88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аг резьбы (Р)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расстояние между соседними вершинами в миллимет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а бывает наружной (болты, винты, шпильки) и внутренней (гайк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ы б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ы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о ходу часовой стрелки,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ым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ротив хода часовой стрел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11280" y="40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Резьб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в технике — чередующиеся выступы и впадины на поверхности тел вращения, расположенные по винтовой линии. Является основным элементом резьбового соеди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rcRect l="5901" t="38453" r="50002" b="19552"/>
          <a:stretch/>
        </p:blipFill>
        <p:spPr>
          <a:xfrm>
            <a:off x="1547640" y="1479600"/>
            <a:ext cx="547236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>
            <a:biLevel thresh="50000"/>
          </a:blip>
          <a:srcRect l="7236" t="7385" r="6023" b="6642"/>
          <a:stretch/>
        </p:blipFill>
        <p:spPr>
          <a:xfrm>
            <a:off x="826920" y="1125360"/>
            <a:ext cx="576108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332000" y="2444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Болт «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2">
            <a:biLevel thresh="50000"/>
          </a:blip>
          <a:srcRect l="0" t="12598" r="0" b="11811"/>
          <a:stretch/>
        </p:blipFill>
        <p:spPr>
          <a:xfrm>
            <a:off x="1042920" y="4292640"/>
            <a:ext cx="5011920" cy="1728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332000" y="36399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бол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87280" y="63039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киз заготовки для деталей болт и гай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8:00:47Z</dcterms:created>
  <dc:creator>Администрация</dc:creator>
  <dc:description/>
  <dc:language>en-US</dc:language>
  <cp:lastModifiedBy>Ирина</cp:lastModifiedBy>
  <dcterms:modified xsi:type="dcterms:W3CDTF">2020-04-22T19:03:41Z</dcterms:modified>
  <cp:revision>58</cp:revision>
  <dc:subject/>
  <dc:title>Слайд 1</dc:title>
</cp:coreProperties>
</file>